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B1A-B47C-4833-9358-FE7681AE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CFB-F074-4022-AA5A-D731D41E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10E-1C1B-4931-8877-D6008D3F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7FB-D8C4-48A9-AD69-7F2613D6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4E9-1B7D-4A96-BCA0-5241CE81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48E-CEA8-4C5B-B4DD-CE3B0E8E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8A1-34C6-4C97-83EB-CC172BC6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698-36FC-413E-A423-4768D86E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2D6-ABDD-4EBF-B4D3-9FD6BAC5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B576-3134-42D0-AB0B-92797E74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EC1-59E9-4A47-9F1E-7F8F09EC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BCD9-3E23-430C-8A27-D60E142D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0168-17C2-4EA4-9835-F2AA6F2C30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3-10-09-04-00-4048972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00"/>
                </a:solidFill>
                <a:latin typeface="Times New Roman"/>
              </a:rPr>
              <a:t>Welcome to my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0480" y="4540320"/>
            <a:ext cx="48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By Wang Y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ior Class2, Grade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for one’s h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for all your hel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’s very kind of you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 from the bottom of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th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fuse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,th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manage it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all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you any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t out the following sit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200" y="838080"/>
            <a:ext cx="655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ents’ activiti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N00500_" descr=""/>
          <p:cNvPicPr/>
          <p:nvPr/>
        </p:nvPicPr>
        <p:blipFill>
          <a:blip r:embed="rId1"/>
          <a:stretch/>
        </p:blipFill>
        <p:spPr>
          <a:xfrm>
            <a:off x="5029200" y="33894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1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n old man is carrying a very heavy suitca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老人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62520" y="2514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2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body is late for a flight and wants to go ahead of the que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排队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tuation3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old and sick person is on a crowded bus and wants to 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t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464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nfai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i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公平的，不公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fai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不公正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and squar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明正大地， 公正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 pl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平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g: This is a good game and they beat u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ai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squar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，经营（尤指商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 hote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营一家餐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e money very wel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很善于理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nage to 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地应付（问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box is heavy, but I can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age to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过去时通常指尝试去做并且成功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 to see him in prison and gave him th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_ to see him in prison, but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6840" y="48546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360" y="5715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9" descr=""/>
          <p:cNvPicPr/>
          <p:nvPr/>
        </p:nvPicPr>
        <p:blipFill>
          <a:blip r:embed="rId1"/>
          <a:stretch/>
        </p:blipFill>
        <p:spPr>
          <a:xfrm>
            <a:off x="-685800" y="-1676520"/>
            <a:ext cx="10366200" cy="1036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Lucida Console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1879560" cy="537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2193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8764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BODY LANGU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ody" descr=""/>
          <p:cNvPicPr/>
          <p:nvPr/>
        </p:nvPicPr>
        <p:blipFill>
          <a:blip r:embed="rId1"/>
          <a:stretch/>
        </p:blipFill>
        <p:spPr>
          <a:xfrm>
            <a:off x="3809880" y="2370240"/>
            <a:ext cx="5334120" cy="4487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Warming up:</a:t>
            </a:r>
            <a:br>
              <a:rPr sz="4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is body languag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way to communicat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ithou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sometimes more tha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n you understand the meaning of the following  ges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victory2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3400" y="54864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ctory/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548640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/Grea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great2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632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andshake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romise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" y="4800600"/>
            <a:ext cx="48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ndsh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iend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800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ke a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you are walking in a street alone,suddenly you fi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erribl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maybe it’s a piece of human skin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’re watching a film in the cinema. You enjoy the film very much, but the man sitting in front of you is talking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You want to hear somebody more clearl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the English class, you want to sleep very much, but you don’t want your teacher to know that you are slee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ffer hel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 I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an I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some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nything I can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 you let me give you a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me to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ll I help you with that?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k for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use me, could you help me with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re anyone who can help 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give me a hand,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ld you help me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12:47Z</dcterms:created>
  <dc:creator>myth</dc:creator>
  <dc:description/>
  <dc:language>en-US</dc:language>
  <cp:lastModifiedBy>myth</cp:lastModifiedBy>
  <dcterms:modified xsi:type="dcterms:W3CDTF">2004-06-06T14:55:48Z</dcterms:modified>
  <cp:revision>15</cp:revision>
  <dc:subject/>
  <dc:title>Welcome to my class!</dc:title>
</cp:coreProperties>
</file>